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DSTHEME2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DB45-DA39-48D0-9298-3B5C9D3FB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D299-AA44-4026-8ECE-901391C1CB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“You Choose a Name” &amp; then on the WordArt toolbar, click on Edit Text.  It could be Science Jeopardy or Social Studies Jeopardy…or whate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3B20-227E-465B-A8A0-7A07EF7EDF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revise this section.  Think about which rules you want to use before you play.  Revise the rules accordingly.  Don’t move past this screen until the team names &amp; buzzer sounds are decided.  Decide who keeps score &amp; who is the ju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2FD9-D570-4F95-9059-4080D0EF76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game board.  Change each of the categories at the top of the five colum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0F9A-01B2-40AA-989A-77204001A6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“Category 1” for the Category you’ve chosen on the previous slide.  Then Click &amp; Drag to select “Type your question(answer) here.” Type the new tex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D227-E538-48AE-A45F-0ED9C0F555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out Category 1 for the category you’ve chosen.  Change out the Answer above with the correct answer.  Double-click on left to add clipart to your page.  Click on the U (action button) to take you back to the game board.  It’s important to click on this to take you back…otherwise you go to th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80B7-9D23-4B89-BB18-8A8BDE7A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C270-555C-4C0C-AF27-7BE56CF0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74AD-7762-4BC4-B2B1-E246F357A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816F-8641-4981-83FB-1E8B66FFC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AB00-C8AE-446E-AB02-0061BD2F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DF58-4112-452D-A4AF-3E75FED4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FA67-3B77-4600-8121-92F6B4EF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46A7-C6DC-4835-9BF9-5D2827EB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F8D2-4866-4D1A-BC9A-E0A360CA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81ED-C4D6-4CCB-B4D6-6A3C199A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522A-ACAC-42B6-AEA8-CFC91EB6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082D-9C7D-4F68-B1C2-F463C205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2BBF-E128-4EC7-B041-E9B3585DAFA6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STHEME2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4.xml"/><Relationship Id="rId7" Type="http://schemas.openxmlformats.org/officeDocument/2006/relationships/slide" Target="slide16.xml"/><Relationship Id="rId8" Type="http://schemas.openxmlformats.org/officeDocument/2006/relationships/slide" Target="slide18.xml"/><Relationship Id="rId9" Type="http://schemas.openxmlformats.org/officeDocument/2006/relationships/slide" Target="slide20.xml"/><Relationship Id="rId10" Type="http://schemas.openxmlformats.org/officeDocument/2006/relationships/slide" Target="slide22.xml"/><Relationship Id="rId11" Type="http://schemas.openxmlformats.org/officeDocument/2006/relationships/slide" Target="slide24.xml"/><Relationship Id="rId12" Type="http://schemas.openxmlformats.org/officeDocument/2006/relationships/slide" Target="slide26.xml"/><Relationship Id="rId13" Type="http://schemas.openxmlformats.org/officeDocument/2006/relationships/slide" Target="slide28.xml"/><Relationship Id="rId14" Type="http://schemas.openxmlformats.org/officeDocument/2006/relationships/slide" Target="slide30.xml"/><Relationship Id="rId15" Type="http://schemas.openxmlformats.org/officeDocument/2006/relationships/slide" Target="slide32.xml"/><Relationship Id="rId16" Type="http://schemas.openxmlformats.org/officeDocument/2006/relationships/slide" Target="slide34.xml"/><Relationship Id="rId17" Type="http://schemas.openxmlformats.org/officeDocument/2006/relationships/slide" Target="slide36.xml"/><Relationship Id="rId18" Type="http://schemas.openxmlformats.org/officeDocument/2006/relationships/slide" Target="slide38.xml"/><Relationship Id="rId19" Type="http://schemas.openxmlformats.org/officeDocument/2006/relationships/slide" Target="slide40.xml"/><Relationship Id="rId20" Type="http://schemas.openxmlformats.org/officeDocument/2006/relationships/slide" Target="slide42.xml"/><Relationship Id="rId21" Type="http://schemas.openxmlformats.org/officeDocument/2006/relationships/slide" Target="slide44.xml"/><Relationship Id="rId22" Type="http://schemas.openxmlformats.org/officeDocument/2006/relationships/slide" Target="slide46.xml"/><Relationship Id="rId23" Type="http://schemas.openxmlformats.org/officeDocument/2006/relationships/slide" Target="slide48.xml"/><Relationship Id="rId24" Type="http://schemas.openxmlformats.org/officeDocument/2006/relationships/slide" Target="slide50.xml"/><Relationship Id="rId25" Type="http://schemas.openxmlformats.org/officeDocument/2006/relationships/slide" Target="slide52.xm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2514600" y="2666880"/>
            <a:ext cx="40384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600200" y="533520"/>
            <a:ext cx="624852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Impact"/>
              </a:rPr>
              <a:t>Reading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2743200" y="5562720"/>
            <a:ext cx="3505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Impact"/>
              </a:rPr>
              <a:t>Contraction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STHEME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n’t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2 words that make up the contrac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uldn’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n’t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05" name="AutoShape 3">
            <a:hlinkClick r:id="rId1" action="ppaction://hlinksldjump"/>
          </p:cNvPr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2640" y="2590560"/>
            <a:ext cx="70102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uld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not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  :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n’t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2 words that make up the contrac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on’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n’t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11" name="AutoShape 3">
            <a:hlinkClick r:id="rId1" action="ppaction://hlinksldjump"/>
          </p:cNvPr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72388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o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not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  :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re / ‘d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2 words that make up the contrac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’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re / ‘d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2590560"/>
            <a:ext cx="716256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r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  :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re / ‘d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2 words that make up the contrac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you’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re / ‘d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2666880"/>
            <a:ext cx="7086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you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r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  :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re / ‘d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2 words that make up the contrac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y’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re / ‘d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2640" y="2590560"/>
            <a:ext cx="70102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y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r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  :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Rules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ways answer in the form of a ques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0 Points deducted for wrong answers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re / ‘d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2 words that make up the contrac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’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re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8960" y="2590560"/>
            <a:ext cx="69339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ould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r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 had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  :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re / ‘d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2 words that make up the contrac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you’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re / ‘d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41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73152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you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ould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r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 had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  :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ll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2 words that make up the contrac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’l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ll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47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2590560"/>
            <a:ext cx="76960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ill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  :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ll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2 words that make up the contrac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he’l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ll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h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ill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  :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ll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2 words that make up the contrac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’l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ll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266688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ill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  :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6094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6094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6094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3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6094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4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6094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5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28"/>
          <p:cNvSpPr/>
          <p:nvPr/>
        </p:nvSpPr>
        <p:spPr>
          <a:xfrm>
            <a:off x="6094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’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29"/>
          <p:cNvSpPr/>
          <p:nvPr/>
        </p:nvSpPr>
        <p:spPr>
          <a:xfrm>
            <a:off x="22096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 / ‘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30"/>
          <p:cNvSpPr/>
          <p:nvPr/>
        </p:nvSpPr>
        <p:spPr>
          <a:xfrm>
            <a:off x="38098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31"/>
          <p:cNvSpPr/>
          <p:nvPr/>
        </p:nvSpPr>
        <p:spPr>
          <a:xfrm>
            <a:off x="54100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32"/>
          <p:cNvSpPr/>
          <p:nvPr/>
        </p:nvSpPr>
        <p:spPr>
          <a:xfrm>
            <a:off x="70102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mb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Rectangle 33"/>
          <p:cNvSpPr/>
          <p:nvPr/>
        </p:nvSpPr>
        <p:spPr>
          <a:xfrm>
            <a:off x="22096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6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Rectangle 34"/>
          <p:cNvSpPr/>
          <p:nvPr/>
        </p:nvSpPr>
        <p:spPr>
          <a:xfrm>
            <a:off x="22096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7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35"/>
          <p:cNvSpPr/>
          <p:nvPr/>
        </p:nvSpPr>
        <p:spPr>
          <a:xfrm>
            <a:off x="22096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8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36"/>
          <p:cNvSpPr/>
          <p:nvPr/>
        </p:nvSpPr>
        <p:spPr>
          <a:xfrm>
            <a:off x="22096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9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Rectangle 37"/>
          <p:cNvSpPr/>
          <p:nvPr/>
        </p:nvSpPr>
        <p:spPr>
          <a:xfrm>
            <a:off x="22096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0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38"/>
          <p:cNvSpPr/>
          <p:nvPr/>
        </p:nvSpPr>
        <p:spPr>
          <a:xfrm>
            <a:off x="38098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1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39"/>
          <p:cNvSpPr/>
          <p:nvPr/>
        </p:nvSpPr>
        <p:spPr>
          <a:xfrm>
            <a:off x="38098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2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Rectangle 40"/>
          <p:cNvSpPr/>
          <p:nvPr/>
        </p:nvSpPr>
        <p:spPr>
          <a:xfrm>
            <a:off x="38098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3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41"/>
          <p:cNvSpPr/>
          <p:nvPr/>
        </p:nvSpPr>
        <p:spPr>
          <a:xfrm>
            <a:off x="38098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4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Rectangle 42"/>
          <p:cNvSpPr/>
          <p:nvPr/>
        </p:nvSpPr>
        <p:spPr>
          <a:xfrm>
            <a:off x="38098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5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Rectangle 43"/>
          <p:cNvSpPr/>
          <p:nvPr/>
        </p:nvSpPr>
        <p:spPr>
          <a:xfrm>
            <a:off x="54100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6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44"/>
          <p:cNvSpPr/>
          <p:nvPr/>
        </p:nvSpPr>
        <p:spPr>
          <a:xfrm>
            <a:off x="54100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7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45"/>
          <p:cNvSpPr/>
          <p:nvPr/>
        </p:nvSpPr>
        <p:spPr>
          <a:xfrm>
            <a:off x="54100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8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46"/>
          <p:cNvSpPr/>
          <p:nvPr/>
        </p:nvSpPr>
        <p:spPr>
          <a:xfrm>
            <a:off x="54100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9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Rectangle 47"/>
          <p:cNvSpPr/>
          <p:nvPr/>
        </p:nvSpPr>
        <p:spPr>
          <a:xfrm>
            <a:off x="54100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0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48"/>
          <p:cNvSpPr/>
          <p:nvPr/>
        </p:nvSpPr>
        <p:spPr>
          <a:xfrm>
            <a:off x="70102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1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49"/>
          <p:cNvSpPr/>
          <p:nvPr/>
        </p:nvSpPr>
        <p:spPr>
          <a:xfrm>
            <a:off x="70102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2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50"/>
          <p:cNvSpPr/>
          <p:nvPr/>
        </p:nvSpPr>
        <p:spPr>
          <a:xfrm>
            <a:off x="70102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3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Rectangle 51"/>
          <p:cNvSpPr/>
          <p:nvPr/>
        </p:nvSpPr>
        <p:spPr>
          <a:xfrm>
            <a:off x="70102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4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52"/>
          <p:cNvSpPr/>
          <p:nvPr/>
        </p:nvSpPr>
        <p:spPr>
          <a:xfrm>
            <a:off x="70102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5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ll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2 words that make up the contrac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you’l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ll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you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ill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  :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ll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2 words that make up the contrac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y’l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ll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y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ill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  :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s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2 words that make up the contrac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’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s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77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2590560"/>
            <a:ext cx="76960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  :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s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2 words that make up the contrac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t’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s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2590560"/>
            <a:ext cx="76960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t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  :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s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2 words that make up the contrac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he’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s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2120" y="2590560"/>
            <a:ext cx="76960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h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  :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n’t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2 words that make up the contrac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an’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s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2 words that make up the contrac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re’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s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95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2120" y="2590560"/>
            <a:ext cx="76960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r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  :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s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2 words that make up the contrac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et’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s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6960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let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u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  :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ombo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2 words that make up the contrac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’m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ombo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07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m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  :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ombo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2 words that make up the contrac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’v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ombo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2120" y="2590560"/>
            <a:ext cx="76960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av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  :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ombo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2 words that make up the contrac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oesn’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ombo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19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o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not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  :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n’t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87" name="AutoShape 4">
            <a:hlinkClick r:id="rId1" action="ppaction://hlinksldjump"/>
          </p:cNvPr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52120" y="2590560"/>
            <a:ext cx="586764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an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not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  :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ombo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2 words that make up the contrac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’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ombo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25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1760" y="2590560"/>
            <a:ext cx="784836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ould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  :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ombo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2 words that make up the contrac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on’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ombo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31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2120" y="2590560"/>
            <a:ext cx="76960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ill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not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  :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n’t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2 words that make up the contrac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idn’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n’t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93" name="AutoShape 3">
            <a:hlinkClick r:id="rId1" action="ppaction://hlinksldjump"/>
          </p:cNvPr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520" y="2514600"/>
            <a:ext cx="62485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id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not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  :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n’t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2 words that make up the contrac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asn’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n’t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99" name="AutoShape 3">
            <a:hlinkClick r:id="rId1" action="ppaction://hlinksldjump"/>
          </p:cNvPr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2590560"/>
            <a:ext cx="723924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a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not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  :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1T15:45:55Z</dcterms:created>
  <dc:creator>Shana Whitlock</dc:creator>
  <dc:description/>
  <dc:language>en-US</dc:language>
  <cp:lastModifiedBy>Laura McDow</cp:lastModifiedBy>
  <dcterms:modified xsi:type="dcterms:W3CDTF">2010-09-21T15:19:07Z</dcterms:modified>
  <cp:revision>30</cp:revision>
  <dc:subject>Reading</dc:subject>
  <dc:title>Jeopardy-Contractions</dc:title>
</cp:coreProperties>
</file>